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827986"/>
        <c:axId val="56225775"/>
      </c:barChart>
      <c:catAx>
        <c:axId val="668279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25775"/>
        <c:crosses val="autoZero"/>
        <c:auto val="1"/>
        <c:lblAlgn val="ctr"/>
        <c:lblOffset val="100"/>
        <c:noMultiLvlLbl val="0"/>
      </c:catAx>
      <c:valAx>
        <c:axId val="562257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279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2D88-5779-41DE-8191-5E10BF38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C69D-42D6-4F8E-8620-47B22ADD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8459-DCD1-483F-8AF2-63B0595D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0EE3-88BA-4835-8898-78B424B5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ECEF-CEB4-4183-90C5-27840680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E4DE-975A-41DF-811A-CC07148C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8F52-9549-4937-BE59-94476047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1FB-552A-447F-B669-6125BFBE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D20A-0D66-45DC-AF38-3C7D5A30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AC52-B976-4E0D-932A-A2FBAD93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BDDF-AD77-41AF-B35F-68783368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1E36-9F37-48BF-889E-577004E2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C8EB6-7D7C-415E-9BC6-99D89CEE41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