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36853"/>
        <c:axId val="3251738"/>
      </c:barChart>
      <c:catAx>
        <c:axId val="74536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1738"/>
        <c:crosses val="autoZero"/>
        <c:auto val="1"/>
        <c:lblAlgn val="ctr"/>
        <c:lblOffset val="100"/>
        <c:noMultiLvlLbl val="0"/>
      </c:catAx>
      <c:valAx>
        <c:axId val="3251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36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DDC-32C5-457B-9ECD-97AC65AD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A28-FC5B-4BBC-BF99-8E9C03B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D69-1E00-4BF0-9D7F-4293898B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0E5-2D83-4F87-90E3-47946796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5D8-E178-41F1-A285-4B6D7EA3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121-CBDC-4F9C-B444-8DAECBE6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828-345D-4CF3-8E87-0D3A745A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7CB-7416-4888-AD2D-4A0E1368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BE3-140E-4B07-A03E-491C0BB7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499-616D-443F-B20E-1F70F69A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876-9AC9-4061-8D11-ECA9F39D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E84-D2FA-4548-BB41-919847D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E24A2-1F27-49CC-BA12-DA363817B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