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93511"/>
        <c:axId val="77306103"/>
      </c:barChart>
      <c:catAx>
        <c:axId val="169935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06103"/>
        <c:crosses val="autoZero"/>
        <c:auto val="1"/>
        <c:lblAlgn val="ctr"/>
        <c:lblOffset val="100"/>
        <c:noMultiLvlLbl val="0"/>
      </c:catAx>
      <c:valAx>
        <c:axId val="773061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935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5AE7-EBE3-4EAD-986E-1B36AE59B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76F-92DA-4454-931B-B88372DE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1C2-82BA-49D8-84DD-F79BB5CF3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81E-42B7-45F1-856E-4F8F9995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351-7860-43D5-9F8B-57CE5162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14A-3CA9-4E60-987A-F9AC37C49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95C7-85AD-42FD-AC49-4AB88FDE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2B3D-9658-43D7-B6D0-19AA8910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AF51-97BC-402E-BEC2-7EE2E432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AD76-9A48-4D94-8803-8A974762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C0B-4071-4C0A-BF79-BB5DBD84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C46-AB4A-45C0-8B32-27A0B174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F9A03-B1AD-40A8-8898-B61E5936CE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