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561265"/>
        <c:axId val="73059848"/>
      </c:barChart>
      <c:catAx>
        <c:axId val="73561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59848"/>
        <c:crosses val="autoZero"/>
        <c:auto val="1"/>
        <c:lblAlgn val="ctr"/>
        <c:lblOffset val="100"/>
        <c:noMultiLvlLbl val="0"/>
      </c:catAx>
      <c:valAx>
        <c:axId val="730598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61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C32F-105E-4CC4-BEEB-A57AC1E5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E7B-98A0-4677-BACB-F7AA7E6D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9DDD-7ACB-463E-A2A4-DB1D89DE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46A-1112-4142-8898-E63C4030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EC75-6010-4F79-892F-310A59D0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055A-8A12-4571-8670-A924DE99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682F-3E0B-41D8-BE00-718FC38B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D1ED-9CBD-4C4B-A022-E591E9D5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821B-F967-44EC-A017-4AD1F363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BE92-2127-44CE-86C6-837FDB0F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9D5B-7B77-473D-B798-7050844F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C82A-6C7F-4241-B77D-6F7C2BAA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D0198-81B3-4EE5-A938-79764FAF15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