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51598"/>
        <c:axId val="85634322"/>
      </c:barChart>
      <c:catAx>
        <c:axId val="56151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34322"/>
        <c:crosses val="autoZero"/>
        <c:auto val="1"/>
        <c:lblAlgn val="ctr"/>
        <c:lblOffset val="100"/>
        <c:noMultiLvlLbl val="0"/>
      </c:catAx>
      <c:valAx>
        <c:axId val="85634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1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4F7-1A80-4752-B62B-B48F9C1F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399-B687-44AF-BBCE-FCC0E0E8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7EF-0EAB-4D60-B6EC-C9E9C0A3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5D5-A96A-4E4D-A002-5271DA04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C4A-7108-498F-85A6-3717F998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9F2-BB4C-4573-8385-5EF06B35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030-0681-4BD2-AEF1-6EED5D40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5F7-DF54-4352-9D83-473F07D1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D6A-D171-463B-BED0-9FC3EEE1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3F0-0451-400B-9097-2610B875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532-9612-4E9E-B88D-5DC36EC8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16F-DC0F-4CCA-8DB6-6D8DAE60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24685-C660-4F95-A661-B1C03972A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