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9614"/>
        <c:axId val="14938216"/>
      </c:barChart>
      <c:catAx>
        <c:axId val="9369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38216"/>
        <c:crosses val="autoZero"/>
        <c:auto val="1"/>
        <c:lblAlgn val="ctr"/>
        <c:lblOffset val="100"/>
        <c:noMultiLvlLbl val="0"/>
      </c:catAx>
      <c:valAx>
        <c:axId val="149382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9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EA3-D0FA-4EDA-9B3F-816789F2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D1C-6436-4974-A6F1-DB8AAD4F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DDA-4357-4F6C-B294-B1BA770B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CBB-98A3-4EE4-9EB4-BE539ADD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948-789D-423B-B679-B4256ABE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20FE-2E64-4AF8-BFA3-A30F24FD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5905-7364-4B7E-B3C3-D95F894C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6C3F-4FA4-4021-9B7C-4A96C853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A39F-1CB5-4D5C-A148-A47ED225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77F-5D4D-48B2-8560-BB7C3C64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1786-A78C-477D-B0C8-210DB507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594-E868-41C3-8745-D8F356DB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89256-7F98-4A91-8E6C-3706F1082C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