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25304"/>
        <c:axId val="58073870"/>
      </c:barChart>
      <c:catAx>
        <c:axId val="66025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73870"/>
        <c:crosses val="autoZero"/>
        <c:auto val="1"/>
        <c:lblAlgn val="ctr"/>
        <c:lblOffset val="100"/>
        <c:noMultiLvlLbl val="0"/>
      </c:catAx>
      <c:valAx>
        <c:axId val="58073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25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489-C70C-4173-9BFF-4C926497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6FF-83E9-4327-8E30-06C0B9F8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39E-8D7D-47B2-8FD8-73A1416F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91B-4513-4209-8F2C-F4C4E45A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64A-5D1A-484C-AD87-D580726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0B5-618A-4C7F-AB87-A24E1BE3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55A-BB49-4EE1-AACF-E025879E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379-1B05-4E1D-8E31-8FE00FCC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69A-72A6-44D4-B56E-EB88747E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176-DDF6-40F1-8BED-983EE3C4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B4B-A7D7-423E-BEF9-F2F3D968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A60-5AF9-47B9-A60D-44D4C153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5FC64-853F-46B3-AAF6-6E24ACB380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