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785450"/>
        <c:axId val="40172754"/>
      </c:barChart>
      <c:catAx>
        <c:axId val="157854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172754"/>
        <c:crosses val="autoZero"/>
        <c:auto val="1"/>
        <c:lblAlgn val="ctr"/>
        <c:lblOffset val="100"/>
        <c:noMultiLvlLbl val="0"/>
      </c:catAx>
      <c:valAx>
        <c:axId val="401727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7854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BF35-2421-4703-A083-A5A4904EB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AE67-7C9A-4F84-9D8E-FD2A425CE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2647-75C9-4A38-B01E-355F40FAA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3BEA-49C0-44F1-96F4-61F2FD4AB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4FEA-E637-4D18-ACC6-7CC4F9CAB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6EA9-44D5-4714-B84E-880C5E747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8098-80B6-4B7A-A2C4-A1CAE675C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B599-5AC2-4D5B-9C9C-4C764061A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1FA6-2E5F-4A37-814E-659837951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804E-607A-4E31-AF7C-80B18B29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DE83-A8EF-45FA-A8A2-46C64153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FC89-A10E-47FB-BB9E-C486CB37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2EBFA8-A39A-406D-A497-4866B0882E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