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60905"/>
        <c:axId val="83107446"/>
      </c:barChart>
      <c:catAx>
        <c:axId val="7486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7446"/>
        <c:crosses val="autoZero"/>
        <c:auto val="1"/>
        <c:lblAlgn val="ctr"/>
        <c:lblOffset val="100"/>
        <c:noMultiLvlLbl val="0"/>
      </c:catAx>
      <c:valAx>
        <c:axId val="83107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556-6688-445A-BF83-0BC760AB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8D4-D866-4544-89FC-F28F02EC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69B-081C-4287-BEFE-63617B61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17D-5831-490A-A006-FE4BBAD9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991-83CE-420F-8EC0-9484461C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86E-1ABE-4C9C-8906-AD19998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796-343D-45B3-BEED-7AE6E90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665-5C5D-49D7-A27B-8ADAD352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E4D-38FA-4E0C-9AEC-421457F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CD7-612F-4B1F-A04D-320FBF0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6D3-DA77-4DCD-BC81-7AB9C45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877-536F-4AB7-ADF4-48AF5A2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0D31A-5A84-48B2-97C7-507CF65B7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