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61171"/>
        <c:axId val="47281668"/>
      </c:barChart>
      <c:catAx>
        <c:axId val="275611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81668"/>
        <c:crosses val="autoZero"/>
        <c:auto val="1"/>
        <c:lblAlgn val="ctr"/>
        <c:lblOffset val="100"/>
        <c:noMultiLvlLbl val="0"/>
      </c:catAx>
      <c:valAx>
        <c:axId val="47281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611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19E-64FF-46E1-947F-C7C9E868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17EF-0A0F-4F61-98A3-FB0E4CE2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49D0-25F2-4276-8BC4-BD26888F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575B-92AE-4513-9ABF-A647D30E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F831-7AD1-4DBF-90DF-2B71DDE3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F11F-C217-4EDF-A548-9DE49977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5357-2C60-48A6-B896-1ADA5556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C69A-A9F4-4078-8D1D-26E57FC2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BB5F-EBC8-44B6-B653-E6612B43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0F07-7191-44C5-8B0E-2BC4778D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0210-7628-4BF3-8F40-169880C5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5DC-07CE-4721-BA82-6CACC5C6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0B717-8445-4D75-B0F0-1CFF1CE731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