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27809"/>
        <c:axId val="49896350"/>
      </c:barChart>
      <c:catAx>
        <c:axId val="1527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96350"/>
        <c:crosses val="autoZero"/>
        <c:auto val="1"/>
        <c:lblAlgn val="ctr"/>
        <c:lblOffset val="100"/>
        <c:noMultiLvlLbl val="0"/>
      </c:catAx>
      <c:valAx>
        <c:axId val="498963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7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525-AAE3-4B0A-9D90-75380DD6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D24D-CEFB-4F80-A5A6-B99BCB89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DD3E-3097-4A92-8551-364283A8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2C7B-271B-4D47-85E0-5449FC6C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DA8-E99C-4662-AD60-F3369579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39B-8AB4-48E2-921B-0C505143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EDB-4895-4F94-95E6-75BAEFBF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9D5-5562-44AF-8027-4003A4CE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67C-C0D1-4975-B244-C3105F94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CB2B-3E0F-4BC0-B305-ABEDAE40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8885-02E7-45F5-B2E9-200A69F3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DD06-AF74-42E5-8E22-0D6031D3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AC3DB-F8E2-4E18-A031-48CB311184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