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791651"/>
        <c:axId val="24746210"/>
      </c:barChart>
      <c:catAx>
        <c:axId val="577916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46210"/>
        <c:crosses val="autoZero"/>
        <c:auto val="1"/>
        <c:lblAlgn val="ctr"/>
        <c:lblOffset val="100"/>
        <c:noMultiLvlLbl val="0"/>
      </c:catAx>
      <c:valAx>
        <c:axId val="247462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7916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6B04-92DC-45B7-BBED-417FA5D4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F1F7-3553-4A73-B83A-D6B902D7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69B3-3252-43F4-BA68-9C56B5643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DC21-769D-4A70-BD02-4D68FCE59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242E-8F56-4CBF-94B2-2A5A9258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6C5D-8F34-4544-B85D-35722FCF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AE56-BEE8-4ACA-A667-6AE4B35B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2CE7-219F-4E75-A341-C03DD990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1CC3-BAE0-49DD-A690-FCEB1A24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8878-5DC9-4114-BF3D-BE358B0A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EE17-34A7-467E-9B9D-E63EDD1F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3935-547A-4D31-B9CD-EC9C3CAC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F26F5D-44A6-4525-910D-D99244BE2A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