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31455"/>
        <c:axId val="49388326"/>
      </c:barChart>
      <c:catAx>
        <c:axId val="51731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88326"/>
        <c:crosses val="autoZero"/>
        <c:auto val="1"/>
        <c:lblAlgn val="ctr"/>
        <c:lblOffset val="100"/>
        <c:noMultiLvlLbl val="0"/>
      </c:catAx>
      <c:valAx>
        <c:axId val="49388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31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F33-C70F-4CA0-9035-BFAF6E82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03E-89F3-4FC2-A765-531FEFF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A76-7F94-4E55-9ED4-1606EF8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775-10E5-4495-A512-F94C8057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1C1-C408-4A87-9FE3-566E9F7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1CA-CF43-4B51-AB77-0FB8A3F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6EB-FA1D-444F-A98F-64150BA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077-23FF-49F9-A4CC-F08CB79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DF4-DEA6-46B5-8BDD-1ADBAA7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E80-76F2-4456-83BA-9977B8E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EF6-392C-4605-B848-1D0394B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F80-2630-4C6D-98F3-280D94B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E7D4-C312-466E-8F15-6777462F7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