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74317"/>
        <c:axId val="8579179"/>
      </c:barChart>
      <c:catAx>
        <c:axId val="26374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9179"/>
        <c:crosses val="autoZero"/>
        <c:auto val="1"/>
        <c:lblAlgn val="ctr"/>
        <c:lblOffset val="100"/>
        <c:noMultiLvlLbl val="0"/>
      </c:catAx>
      <c:valAx>
        <c:axId val="85791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74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8DE-2EFD-4A2F-9DE7-44DCFAE0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564-B847-4FB7-94D4-591E2B1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F69-8ECC-45FC-AD19-4F7BF154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D2C-CEDB-434A-A8E0-045EEAF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01E-B0D4-4B29-8B33-5F9DFCF7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B70-75B7-437C-8759-704FD06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460-1254-4373-9ACB-F3BED99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EA6-A407-4EC9-B5C6-830DA384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E6E-1B7B-4C79-8F8E-98458D9F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1CB-9BD0-4A19-B3AF-817557FB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C67-86B6-4DA9-BF6C-0C39622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457-94CB-4AEA-BA2F-80EA3B0F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C3432-7733-49D1-BFF7-1C3AAB35F0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