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009784"/>
        <c:axId val="32318529"/>
      </c:barChart>
      <c:catAx>
        <c:axId val="380097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18529"/>
        <c:crosses val="autoZero"/>
        <c:auto val="1"/>
        <c:lblAlgn val="ctr"/>
        <c:lblOffset val="100"/>
        <c:noMultiLvlLbl val="0"/>
      </c:catAx>
      <c:valAx>
        <c:axId val="323185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0097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AD63-098E-44A3-BBBB-FB9E240F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24F-CA32-4C65-BBC2-6A699D6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BD2-F0D9-4443-813D-D0E826042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F1DE-7794-4936-A156-B9C0974FE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613-5F45-48BC-98E6-78FEFF454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5D52-5909-47CD-90BE-A7F4C066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FF3-8654-4A57-A363-7432CCD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FEF-07D7-4AD0-A4A6-8B6DAB26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ADE1-C8BA-4F13-9EB2-32BFF451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2DF-2283-432F-89BA-1C9ACEC22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ADE6-A9C4-45EB-B56A-6988506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C0D-6549-46A5-B499-256C00E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98FD-E046-4705-8471-2396669E02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