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615781"/>
        <c:axId val="40635926"/>
      </c:barChart>
      <c:catAx>
        <c:axId val="786157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635926"/>
        <c:crosses val="autoZero"/>
        <c:auto val="1"/>
        <c:lblAlgn val="ctr"/>
        <c:lblOffset val="100"/>
        <c:noMultiLvlLbl val="0"/>
      </c:catAx>
      <c:valAx>
        <c:axId val="406359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6157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9BA2-6B46-4AAE-81E8-93B1777E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C366-90D6-465A-A2A3-A60D54A3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86BB-5C81-4FA5-9E3F-0A435357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F2E3-F9B9-4368-9ED5-0BB5FCC3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F649-D049-45EB-8AA0-5A09E3A5B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2C9E-E8B0-4D8B-96FD-C80703AEB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F069-6E22-4359-ABD1-7A0C9D1B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697E-DE79-4973-B2E8-CA0FFAA39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A59D-3960-47D7-84C8-E147AFB5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BED-0875-4885-BEB8-3D0AC726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B83C-EADC-436C-B72B-3ACE456E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766-AD6D-45A3-B695-7F33F46B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6F6A3-53BF-4441-824D-9D11CD90028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