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31330"/>
        <c:axId val="69852881"/>
      </c:barChart>
      <c:catAx>
        <c:axId val="54031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52881"/>
        <c:crosses val="autoZero"/>
        <c:auto val="1"/>
        <c:lblAlgn val="ctr"/>
        <c:lblOffset val="100"/>
        <c:noMultiLvlLbl val="0"/>
      </c:catAx>
      <c:valAx>
        <c:axId val="69852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31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3F2-96DF-4FD7-B1A2-A2615FB8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982-5D20-49B9-9129-BFD7E6C8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605-7AC6-4608-8CD4-EC285C1B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0D8-E526-41A4-AA78-9B661F7B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1B3-83DF-4413-A2BE-18F76CC7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BF1-161F-4C51-B274-BE5638BD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130-E202-4637-8151-0BCE83CA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A85-1D13-45D5-84F6-8D7D8DFA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A57-AC8E-4EB0-B6AF-9763F211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092-9169-4F0E-8771-C15DED57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EC8-D5BB-4E0C-AB27-09F5BD2D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EB8-31BA-431D-8012-0297E7A4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BA448-515C-404A-8159-CA4B3C836F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