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71301"/>
        <c:axId val="90082422"/>
      </c:barChart>
      <c:catAx>
        <c:axId val="42713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82422"/>
        <c:crosses val="autoZero"/>
        <c:auto val="1"/>
        <c:lblAlgn val="ctr"/>
        <c:lblOffset val="100"/>
        <c:noMultiLvlLbl val="0"/>
      </c:catAx>
      <c:valAx>
        <c:axId val="900824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13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EDB6-1A84-478A-BF92-2A733E55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2EE0-416D-4C81-9F23-38A13B9D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BFA8-98A8-4D72-B022-75F46CC5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468-9497-4D3B-BEE1-7AF874B8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DC6D-B32E-49F7-A6D1-FF21BEA8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2052-4EA4-4043-A37E-05D30DF5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15F-BDC6-40E3-8F8E-435DA7F7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14AB-604E-4776-B12B-4F99CB7D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1EA4-117C-4CAE-AA45-416D9E41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25C5-C1F7-4B71-B45D-988CDE89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C753-EB3B-4DC5-941C-F32B9A8F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4C0-D62F-4602-BEEA-22962E4A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B49C4-2B93-41F7-8974-B9BC9BA6A7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