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55703"/>
        <c:axId val="76163700"/>
      </c:barChart>
      <c:catAx>
        <c:axId val="333557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63700"/>
        <c:crosses val="autoZero"/>
        <c:auto val="1"/>
        <c:lblAlgn val="ctr"/>
        <c:lblOffset val="100"/>
        <c:noMultiLvlLbl val="0"/>
      </c:catAx>
      <c:valAx>
        <c:axId val="76163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557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4C1-D314-4E29-8FB2-3E9D7EA0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AE6A-A68D-40B9-B628-E44F4C3A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699E-7F79-42E4-94FF-9455D3D6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BFE1-5D7B-4E3D-9CAB-28E452FC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5694-7FCA-4D8C-921B-A26FB942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1CF-D6D8-4979-88E7-8C011AD0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1D0-3CC6-44D9-853E-0CD8D0EB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86B-EA78-4A16-863C-CDA3677C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33E-1288-4BEE-8E73-D0F889CD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A34-0381-42AC-A466-7BF1DAEE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92D1-87B5-4D67-B49E-66BE8E7A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6B2F-9503-4A97-B56D-4F72C5D0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37DED-75BB-41B0-A1D6-FF5FAF6606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