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427629"/>
        <c:axId val="5972639"/>
      </c:barChart>
      <c:catAx>
        <c:axId val="924276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72639"/>
        <c:crosses val="autoZero"/>
        <c:auto val="1"/>
        <c:lblAlgn val="ctr"/>
        <c:lblOffset val="100"/>
        <c:noMultiLvlLbl val="0"/>
      </c:catAx>
      <c:valAx>
        <c:axId val="59726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4276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7621-9637-4EEC-AC00-773355C35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73DD-765B-419E-922C-E7336B613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EA78-BAE1-4968-8B1B-4FF604BE7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A0E9-78CE-46D3-8C9A-B6232F6E1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C197-D6C3-4CFF-94CF-3377A7E14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B953-D72F-486F-A875-D0A3CE5AF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FCF3-8F8F-4C83-86D5-BB317B5F4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63BC-0D88-4343-9EA7-540409978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13EE-F829-43E3-A25E-37132CA2A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166F-4C0D-442F-A5FB-44303858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90B4-D77B-4D72-B98E-BF3B3878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70A3-EA71-4FB5-BBE7-F55977D6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B31DF8-ECF3-48BE-8391-AFA453459E1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