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24491"/>
        <c:axId val="25529663"/>
      </c:barChart>
      <c:catAx>
        <c:axId val="23424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29663"/>
        <c:crosses val="autoZero"/>
        <c:auto val="1"/>
        <c:lblAlgn val="ctr"/>
        <c:lblOffset val="100"/>
        <c:noMultiLvlLbl val="0"/>
      </c:catAx>
      <c:valAx>
        <c:axId val="25529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24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156-FA65-44AC-95E2-4FCC38CA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57B-2B28-420F-8279-2613910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AF0-7760-43BA-9D19-029E34C4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557-74C5-450E-B5DD-327E523B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5AC-C454-4FD0-A1F9-B1CFDE5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C2C-5247-4AA7-8A69-44BC466E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D5A-7AE2-4DD6-B155-A0CD74F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082-6B6D-4397-9FB8-28BE589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85A-C983-462C-8230-6F0EAABF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14B-1D5B-4ADA-961C-6696C7E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844-704E-49B8-82C0-A7379D1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01D-7BC2-48EC-AE04-8815613D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AD83-F28D-44B1-B0E3-FD638FAB93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