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1980"/>
        <c:axId val="6674066"/>
      </c:barChart>
      <c:catAx>
        <c:axId val="9011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4066"/>
        <c:crosses val="autoZero"/>
        <c:auto val="1"/>
        <c:lblAlgn val="ctr"/>
        <c:lblOffset val="100"/>
        <c:noMultiLvlLbl val="0"/>
      </c:catAx>
      <c:valAx>
        <c:axId val="6674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1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365-B029-4004-8618-BBCAE6B8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EA7-5275-4454-9810-CDFF8ADC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F68-BD4D-4787-BCDA-1BD783B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7C0-39B4-439C-9902-18F4EDDB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350-5874-4394-973E-C60D9CE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648-200E-4799-BFD7-C24CE4F1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9EC-7380-4224-82C8-1FCA4A8A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C4E-31C5-478D-A149-84530170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61D-4F35-4C05-BCE8-A7303AC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C06-6190-475C-9469-D603C7C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710-A15D-40F9-AD9F-5AA4DF5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777-979C-4D30-B87A-080A3DC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7EF9-5C06-4CE6-99EE-320CE48DB4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