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333231"/>
        <c:axId val="2714186"/>
      </c:barChart>
      <c:catAx>
        <c:axId val="91333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4186"/>
        <c:crosses val="autoZero"/>
        <c:auto val="1"/>
        <c:lblAlgn val="ctr"/>
        <c:lblOffset val="100"/>
        <c:noMultiLvlLbl val="0"/>
      </c:catAx>
      <c:valAx>
        <c:axId val="27141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33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4EB-4142-4D07-99FC-C963F2CD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E73-BBB5-4DCF-8989-56709FF9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41D-6EA9-4602-9DDD-19494E63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40D-1328-483D-8A87-E5EF6400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903D-BA65-4701-BEDF-30365551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7F7-ED0F-45ED-B7EB-B1DE64DE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EA7B-719E-47DE-97C9-B3FC44E2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08B-A84D-4D3B-B09F-1D67F8FA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7687-4569-4CB9-A822-EF090DBD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876-A2E6-4E18-85BE-3D11999F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079-1A0D-4FDC-905A-B66D237C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33E-50CC-4063-8F58-E365F563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F10E8-E7D7-45C0-9899-CA72E8F1C4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