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6876666"/>
        <c:axId val="51490029"/>
      </c:barChart>
      <c:catAx>
        <c:axId val="9687666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1490029"/>
        <c:crosses val="autoZero"/>
        <c:auto val="1"/>
        <c:lblAlgn val="ctr"/>
        <c:lblOffset val="100"/>
        <c:noMultiLvlLbl val="0"/>
      </c:catAx>
      <c:valAx>
        <c:axId val="5149002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87666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FA4AF-2A40-42FA-836C-3DF899ACB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6D328-FCA0-45FF-A72F-024A7CF9A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C02DE-6FF8-41C6-A3F8-C48CBC6E0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CBD60-FC96-4D50-AF75-462AFA666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CFB23-A529-4CBE-A317-529863B16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05EC1-8E08-4079-900C-8E385CA76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C062D-E907-4056-8890-8F99CC27A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F60FE-89E1-41E2-9155-90DF8DB93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711AE-F453-4E58-BFE9-19B7FB8FE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334BB-B040-4302-B8ED-DBA799807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89D6F-7867-4B0D-962C-1F0E67FD6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51AF5-8B87-45D3-A965-BD86CFF8C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6E6D2A-41EF-427D-B051-490962EE825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